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305A-310E-45E4-8FE4-39FCA7BC9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1809-1C92-40B2-9E31-822CC363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0165-E947-4A77-A793-19C240AA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ACC4-76EE-429C-B9F9-C7ACEC348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8ACC-03B9-4F25-9EBD-9DFE8DB4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87B4-4E56-49AD-8E5B-44404B45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9021-449D-4DC1-A24C-ECCD5652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D0B1-3C71-4ABB-B5E3-219A85D6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0BF6-B65E-4711-8084-2095891F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8E53-F04B-4703-97F1-F4137132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6510-9212-4360-B041-3AFFCDE8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EA01-9325-44BD-8690-22F5F74A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DA3F-D2CF-449A-9F66-36FCB4BF3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dwell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200" spc="-1" strike="noStrike">
                <a:solidFill>
                  <a:srgbClr val="000000"/>
                </a:solidFill>
                <a:latin typeface="Arial"/>
              </a:rPr>
              <a:t>split</a:t>
            </a:r>
            <a:endParaRPr b="0" lang="en-US" sz="3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200" spc="-1" strike="noStrike">
                <a:solidFill>
                  <a:srgbClr val="000000"/>
                </a:solidFill>
                <a:latin typeface="Arial"/>
              </a:rPr>
              <a:t>stink</a:t>
            </a:r>
            <a:endParaRPr b="0" lang="en-US" sz="3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300" spc="-1" strike="noStrike">
                <a:solidFill>
                  <a:srgbClr val="000000"/>
                </a:solidFill>
                <a:latin typeface="Arial"/>
              </a:rPr>
              <a:t>track</a:t>
            </a:r>
            <a:endParaRPr b="0" lang="en-US" sz="29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stung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400" spc="-1" strike="noStrike">
                <a:solidFill>
                  <a:srgbClr val="000000"/>
                </a:solidFill>
                <a:latin typeface="Arial"/>
              </a:rPr>
              <a:t>flex</a:t>
            </a:r>
            <a:endParaRPr b="0" lang="en-US" sz="3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drank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500" spc="-1" strike="noStrike">
                <a:solidFill>
                  <a:srgbClr val="000000"/>
                </a:solidFill>
                <a:latin typeface="Arial"/>
              </a:rPr>
              <a:t>creatures</a:t>
            </a: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200" spc="-1" strike="noStrike">
                <a:solidFill>
                  <a:srgbClr val="000000"/>
                </a:solidFill>
                <a:latin typeface="Arial"/>
              </a:rPr>
              <a:t>flock</a:t>
            </a:r>
            <a:endParaRPr b="0" lang="en-US" sz="3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crows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jump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200" spc="-1" strike="noStrike">
                <a:solidFill>
                  <a:srgbClr val="000000"/>
                </a:solidFill>
                <a:latin typeface="Arial"/>
              </a:rPr>
              <a:t>bluebird</a:t>
            </a:r>
            <a:endParaRPr b="0" lang="en-US" sz="1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about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200" spc="-1" strike="noStrike">
                <a:solidFill>
                  <a:srgbClr val="000000"/>
                </a:solidFill>
                <a:latin typeface="Arial"/>
              </a:rPr>
              <a:t>bear</a:t>
            </a:r>
            <a:endParaRPr b="0" lang="en-US" sz="3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200" spc="-1" strike="noStrike">
                <a:solidFill>
                  <a:srgbClr val="000000"/>
                </a:solidFill>
                <a:latin typeface="Arial"/>
              </a:rPr>
              <a:t>beautiful</a:t>
            </a:r>
            <a:endParaRPr b="0" lang="en-US" sz="1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3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29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700" spc="-1" strike="noStrike">
                <a:solidFill>
                  <a:srgbClr val="000000"/>
                </a:solidFill>
                <a:latin typeface="Arial"/>
              </a:rPr>
              <a:t>couldn’t</a:t>
            </a:r>
            <a:endParaRPr b="0" lang="en-US" sz="19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father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500" spc="-1" strike="noStrike">
                <a:solidFill>
                  <a:srgbClr val="000000"/>
                </a:solidFill>
                <a:latin typeface="Arial"/>
              </a:rPr>
              <a:t>good</a:t>
            </a:r>
            <a:endParaRPr b="0" lang="en-US" sz="2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1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7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300" spc="-1" strike="noStrike">
                <a:solidFill>
                  <a:srgbClr val="000000"/>
                </a:solidFill>
                <a:latin typeface="Arial"/>
              </a:rPr>
              <a:t>mask</a:t>
            </a:r>
            <a:endParaRPr b="0" lang="en-US" sz="29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100" spc="-1" strike="noStrike">
                <a:solidFill>
                  <a:srgbClr val="000000"/>
                </a:solidFill>
                <a:latin typeface="Arial"/>
              </a:rPr>
              <a:t>love</a:t>
            </a:r>
            <a:endParaRPr b="0" lang="en-US" sz="3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700" spc="-1" strike="noStrike">
                <a:solidFill>
                  <a:srgbClr val="000000"/>
                </a:solidFill>
                <a:latin typeface="Arial"/>
              </a:rPr>
              <a:t>pulling</a:t>
            </a:r>
            <a:endParaRPr b="0" lang="en-US" sz="2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400" spc="-1" strike="noStrike">
                <a:solidFill>
                  <a:srgbClr val="000000"/>
                </a:solidFill>
                <a:latin typeface="Arial"/>
              </a:rPr>
              <a:t>saw</a:t>
            </a:r>
            <a:endParaRPr b="0" lang="en-US" sz="3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straigh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300" spc="-1" strike="noStrike">
                <a:solidFill>
                  <a:srgbClr val="000000"/>
                </a:solidFill>
                <a:latin typeface="Arial"/>
              </a:rPr>
              <a:t>mine</a:t>
            </a:r>
            <a:endParaRPr b="0" lang="en-US" sz="29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mane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400" spc="-1" strike="noStrike">
                <a:solidFill>
                  <a:srgbClr val="000000"/>
                </a:solidFill>
                <a:latin typeface="Arial"/>
              </a:rPr>
              <a:t>lane</a:t>
            </a:r>
            <a:endParaRPr b="0" lang="en-US" sz="3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400" spc="-1" strike="noStrike">
                <a:solidFill>
                  <a:srgbClr val="000000"/>
                </a:solidFill>
                <a:latin typeface="Arial"/>
              </a:rPr>
              <a:t>lone</a:t>
            </a:r>
            <a:endParaRPr b="0" lang="en-US" sz="3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300" spc="-1" strike="noStrike">
                <a:solidFill>
                  <a:srgbClr val="000000"/>
                </a:solidFill>
                <a:latin typeface="Arial"/>
              </a:rPr>
              <a:t>tone</a:t>
            </a:r>
            <a:endParaRPr b="0" lang="en-US" sz="3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300" spc="-1" strike="noStrike">
                <a:solidFill>
                  <a:srgbClr val="000000"/>
                </a:solidFill>
                <a:latin typeface="Arial"/>
              </a:rPr>
              <a:t>plug</a:t>
            </a:r>
            <a:endParaRPr b="0" lang="en-US" sz="3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400" spc="-1" strike="noStrike">
                <a:solidFill>
                  <a:srgbClr val="000000"/>
                </a:solidFill>
                <a:latin typeface="Arial"/>
              </a:rPr>
              <a:t>tune</a:t>
            </a:r>
            <a:endParaRPr b="0" lang="en-US" sz="3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400" spc="-1" strike="noStrike">
                <a:solidFill>
                  <a:srgbClr val="000000"/>
                </a:solidFill>
                <a:latin typeface="Arial"/>
              </a:rPr>
              <a:t>fine</a:t>
            </a:r>
            <a:endParaRPr b="0" lang="en-US" sz="3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0" spc="-1" strike="noStrike">
                <a:solidFill>
                  <a:srgbClr val="000000"/>
                </a:solidFill>
                <a:latin typeface="Arial"/>
              </a:rPr>
              <a:t>smile</a:t>
            </a:r>
            <a:endParaRPr b="0" lang="en-US" sz="2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200" spc="-1" strike="noStrike">
                <a:solidFill>
                  <a:srgbClr val="000000"/>
                </a:solidFill>
                <a:latin typeface="Arial"/>
              </a:rPr>
              <a:t>strong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600" spc="-1" strike="noStrike">
                <a:solidFill>
                  <a:srgbClr val="000000"/>
                </a:solidFill>
                <a:latin typeface="Arial"/>
              </a:rPr>
              <a:t>scrub</a:t>
            </a:r>
            <a:endParaRPr b="0" lang="en-US" sz="2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7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5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0" spc="-1" strike="noStrike">
                <a:solidFill>
                  <a:srgbClr val="000000"/>
                </a:solidFill>
                <a:latin typeface="Arial"/>
              </a:rPr>
              <a:t>scrape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14:36:51Z</dcterms:created>
  <dc:creator> </dc:creator>
  <dc:description/>
  <dc:language>en-US</dc:language>
  <cp:lastModifiedBy> </cp:lastModifiedBy>
  <dcterms:modified xsi:type="dcterms:W3CDTF">2007-05-06T15:13:07Z</dcterms:modified>
  <cp:revision>20</cp:revision>
  <dc:subject/>
  <dc:title>king</dc:title>
</cp:coreProperties>
</file>